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BF2-29EC-4DE9-AD93-4EE39DB7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BC2-31D6-41A0-8077-6B4D892A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596-A530-43DC-9278-3DAB8D09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614-7977-460B-8DB9-22111211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6DA-7987-4713-BF33-2A35CE2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F889-DA8A-4F52-9C08-C44A8DA9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A25-E18B-462A-B4B7-6CBD4278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BFE-466F-45CA-8DFA-BD36A81D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D37-44ED-4372-8424-D8850F4B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80B-C325-4C63-A370-80537F63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CB6-6C3A-404B-AEBB-EEF1C5D9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E14-DCCB-426D-AB64-3E981EFE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9BA-DF32-4EE2-BB41-7F67AD8372B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219320"/>
            <a:ext cx="8229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CENA DEL DIGIUNO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2006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L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AVORO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M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INO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523880"/>
            <a:ext cx="51055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ARI 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UMERO DI ABITA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 ITALIA, FRANCI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ERMANIA E AUST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ESSE ASSI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lav4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402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L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AVORO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M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INO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lav5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1295280"/>
            <a:ext cx="4419720" cy="305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57400" y="4648320"/>
            <a:ext cx="5105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DELLA MET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IMPEGN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 LAVORI RISCHIO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L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AVORO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M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INO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4632480"/>
            <a:ext cx="510552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8,4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ILIONI DI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RIDO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N SCHIAVIT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lav1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981080" y="1447920"/>
            <a:ext cx="5486400" cy="3340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L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AVORO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M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INO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1447920"/>
            <a:ext cx="7086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ER NON PARL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EL TRAFFICO DI ORGANI  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ELLA TRATTA DELLE BAMB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VVIATE ALLA PROSTITUZION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SSO GESTIT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DA AUTORIT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 POLIZIA, PARENTI E TUTORI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 SI DIVIDONO I PROFI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4815000"/>
            <a:ext cx="5105520" cy="19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EL 2004 MUOI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3,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ILIONI DI PERS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aids-0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57400" y="1371600"/>
            <a:ext cx="5181480" cy="307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4800600"/>
            <a:ext cx="510552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QUESTO SIGNIFICA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35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ERSONE OGNI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aids-0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57400" y="1371600"/>
            <a:ext cx="5181480" cy="307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aids-0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057400" y="1371600"/>
            <a:ext cx="5181480" cy="307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33720" y="52578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OGNI 10 SECON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876920"/>
            <a:ext cx="5105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70% DEI DECEDU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VIVEVA IN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aids-02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438280" y="1295280"/>
            <a:ext cx="4953240" cy="3337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800600"/>
            <a:ext cx="5105520" cy="18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720.000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BAMBINI SIEROPOSITIVI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90% SONO IN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aids-08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4191120" cy="3502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09680"/>
            <a:ext cx="7772400" cy="31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'ASPETTATIVA DI V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 UNA PERS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E VIVE NELLO ZIMBAB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 NON CI FOSSE L'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REBBE PARI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68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N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486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852 MILIONI DI PERSONE AL MONDO SONO SOTTOALIMEN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fame5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067360" cy="339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12193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'ASPETTATIVA DI V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 UNA PERSONA CHE V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ELLO ZIMBABW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È INVECE DI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33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ANNI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265640"/>
            <a:ext cx="8001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LCUNI DEI PRESEN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 QUESTA C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(probabilmente più della metà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AREBBERO GIÀ MORTI DA ANNI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A I D 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905120"/>
            <a:ext cx="777240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 FARMACI PER FREN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QUESTA MALATTIA ESIST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 LA MAGGIOR PA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EI SIEROPOSITIV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ON HA I SOLDI PER ACQUISTAR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MALATTIE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NFET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752480"/>
            <a:ext cx="518148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OLTI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POTREBBERO VIV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E POTESSERO ESSERE VACCIN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ONTRO LE T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MALATTIE INFET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CHE LI COLPISC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ao3" descr=""/>
          <p:cNvPicPr/>
          <p:nvPr/>
        </p:nvPicPr>
        <p:blipFill>
          <a:blip r:embed="rId1"/>
          <a:stretch/>
        </p:blipFill>
        <p:spPr>
          <a:xfrm>
            <a:off x="0" y="1143000"/>
            <a:ext cx="374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G</a:t>
            </a:r>
            <a:r>
              <a:rPr b="0" lang="it-IT" sz="4000" spc="-1" strike="noStrike">
                <a:solidFill>
                  <a:srgbClr val="ffffff"/>
                </a:solidFill>
                <a:latin typeface="Goudy Stout"/>
              </a:rPr>
              <a:t>UER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sold2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04" name="sold3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105" name="sold1" descr=""/>
          <p:cNvPicPr/>
          <p:nvPr/>
        </p:nvPicPr>
        <p:blipFill>
          <a:blip r:embed="rId3"/>
          <a:stretch/>
        </p:blipFill>
        <p:spPr>
          <a:xfrm>
            <a:off x="3352680" y="1676520"/>
            <a:ext cx="2571840" cy="1714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9625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ELL’ULTIMO DECEN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LTRE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ILIONI DI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ONO RIMASTI UCCI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NELLE GUERRE PRESENTI NEL MON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3809880"/>
            <a:ext cx="69343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IL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GRAVEMENTE FERI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IA A CAUSA DELLE GUER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IA PER LE MINE ANTI-U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MINE ANTI-UO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anti1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2718000" cy="3962520"/>
          </a:xfrm>
          <a:prstGeom prst="rect">
            <a:avLst/>
          </a:prstGeom>
          <a:ln w="0">
            <a:noFill/>
          </a:ln>
        </p:spPr>
      </p:pic>
      <p:pic>
        <p:nvPicPr>
          <p:cNvPr id="110" name="anti2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86600" y="1066680"/>
            <a:ext cx="189216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anti3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971800" y="1066680"/>
            <a:ext cx="3962520" cy="2686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3857760"/>
            <a:ext cx="716256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LIARDI DI PERS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VE CON UN REDD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RIORE A UN DOLLARO AL GI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286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D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STRIBUZIONE DELLA </a:t>
            </a: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R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CCHE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Lavoro1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590920" cy="172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24444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D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STRIBUZIONE DELLA </a:t>
            </a: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R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CCHE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 20% DELLA POPOLAZIONE MONDIALE POSSIEDE L’87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LA RICCHEZZA MONDI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3459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405320"/>
            <a:ext cx="7162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TRE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LIARDO DI PERS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HA ACCESSO ALL’ACQUA POT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286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D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STRIBUZIONE DELLA </a:t>
            </a: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R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CCHE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lavoro2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971800" cy="1941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5091120"/>
            <a:ext cx="7162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63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LIONI DI PERS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 ANALFAB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860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D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STRIBUZIONE DELLA </a:t>
            </a:r>
            <a:r>
              <a:rPr b="0" lang="it-IT" sz="4400" spc="-1" strike="noStrike">
                <a:solidFill>
                  <a:srgbClr val="ffffff"/>
                </a:solidFill>
                <a:latin typeface="Goudy Stout"/>
              </a:rPr>
              <a:t>R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ICCHE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imag4" descr=""/>
          <p:cNvPicPr/>
          <p:nvPr/>
        </p:nvPicPr>
        <p:blipFill>
          <a:blip r:embed="rId1"/>
          <a:stretch/>
        </p:blipFill>
        <p:spPr>
          <a:xfrm>
            <a:off x="3591000" y="1938240"/>
            <a:ext cx="1962000" cy="2981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2270160"/>
            <a:ext cx="7620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MA E’ POSSIBI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CAMBIARE QUALCOS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486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96% VIVE NEI PAESI SOTTOSVILUPP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fame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676520" y="1447920"/>
            <a:ext cx="5848200" cy="3905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236232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VOGLIAMO RINUNCI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A QUALCOS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371600"/>
            <a:ext cx="85341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COSA POSSIAMO FARE N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Gill Sans Ultra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NEL NOSTRO PICCOLO 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PER RIDURRE QUES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DISUGUAGLIANZE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488880"/>
            <a:ext cx="85345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Vogliam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suggeri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alcune  possibili propos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per provare a cambiar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QUALCO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PROPOS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827360"/>
            <a:ext cx="815364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CARITÀ E SOLIDARIET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anche attravers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La Cena del Povero 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l’iniziati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Un posto a Tavo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PROPOS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514600"/>
            <a:ext cx="5105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ADOZION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DISTANZA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PROPOS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752480"/>
            <a:ext cx="8001000" cy="48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COMMERCIO EQU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E SOLID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ERMETTE DI ACQUISIRE PRODOT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RTIGIANALI E ALIMENT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L TERZO M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D UN PREZZO EQ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CORDATO CON I PRODUTTORI STE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PROPOS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819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RICICLAGGIO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DEI RIFIU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22860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PROPOST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819520"/>
            <a:ext cx="601992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VOLONTARIA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Gill Sans Ultra Bold"/>
              </a:rPr>
              <a:t>INTERNAZIONALE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Con questa presentazio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abbiamo voluto portarvi a conoscenz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della situazione mondial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con la speranza che ognuno di no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possa veram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sentirsi cittadino del mondo 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impegnarsi affinch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la carità di Cristo possa raggiung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il cuore di ogni uomo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ff00"/>
                </a:solidFill>
                <a:latin typeface="Times New Roman"/>
              </a:rPr>
              <a:t>BUONA PASQUA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Avete qui qualche cosa da mangiare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Times New Roman"/>
              </a:rPr>
              <a:t>Lc 24, 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029200"/>
            <a:ext cx="8991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MILIONI DI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OIONO OGNI AN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 INSUFFICIENZA ALIMENT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fame3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828800" y="1295280"/>
            <a:ext cx="5772240" cy="3854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ame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62080"/>
            <a:ext cx="3797280" cy="569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362320"/>
            <a:ext cx="419076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QUESTO SIGNIF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7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GNI GIORN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2362320"/>
            <a:ext cx="41907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57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OR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fame1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1162080"/>
            <a:ext cx="3797280" cy="569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fame4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37494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362320"/>
            <a:ext cx="41907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 MINUT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ame4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37494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7400" y="15228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ffff"/>
                </a:solidFill>
                <a:latin typeface="Goudy Stout"/>
              </a:rPr>
              <a:t>FAME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362320"/>
            <a:ext cx="419076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BAMB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OG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SECOND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2286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L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AVORO</a:t>
            </a:r>
            <a:r>
              <a:rPr b="0" lang="it-IT" sz="32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0" lang="it-IT" sz="5400" spc="-1" strike="noStrike">
                <a:solidFill>
                  <a:srgbClr val="ffffff"/>
                </a:solidFill>
                <a:latin typeface="Goudy Stout"/>
              </a:rPr>
              <a:t>M</a:t>
            </a:r>
            <a:r>
              <a:rPr b="0" lang="it-IT" sz="2800" spc="-1" strike="noStrike">
                <a:solidFill>
                  <a:srgbClr val="ffffff"/>
                </a:solidFill>
                <a:latin typeface="Goudy Stout"/>
              </a:rPr>
              <a:t>INOR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828800"/>
            <a:ext cx="51055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211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I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 BAMB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i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ai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4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ann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NO COSTRET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GNI GIOR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LAVOR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lav2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6608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1:49:40Z</dcterms:created>
  <dc:creator>Marco The Best</dc:creator>
  <dc:description/>
  <dc:language>en-US</dc:language>
  <cp:lastModifiedBy>Riccardo</cp:lastModifiedBy>
  <dcterms:modified xsi:type="dcterms:W3CDTF">2006-04-11T11:57:53Z</dcterms:modified>
  <cp:revision>22</cp:revision>
  <dc:subject/>
  <dc:title>PowerPoint Presentation</dc:title>
</cp:coreProperties>
</file>